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73320"/>
        <c:axId val="31371177"/>
      </c:barChart>
      <c:catAx>
        <c:axId val="30573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71177"/>
        <c:crosses val="autoZero"/>
        <c:auto val="1"/>
        <c:lblAlgn val="ctr"/>
        <c:lblOffset val="100"/>
        <c:noMultiLvlLbl val="0"/>
      </c:catAx>
      <c:valAx>
        <c:axId val="31371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73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987-4B7F-45EB-99CE-D8862EEF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4E3-C8FA-4DFC-A77F-76FBBF96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074-79DC-421E-AC0C-AC2DDBB4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0D4-FDE0-4DD8-BC21-62EF533E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BBD-BA18-4EE6-AB4B-A222306D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7C2-385A-4940-9FEC-BCD64435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BA6-9F8C-46A0-9923-CDCE5358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34A-310C-4BF6-A0F5-A1640287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DD0-0E9B-4BB7-881F-85C34D18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932-094D-40B0-A3B3-142BD02B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A8F-0152-45CD-9821-8B90EDAD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8B6-D106-4648-A358-EFDF6B85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6A66B-4861-475F-9AD7-378C9D498B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